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7AF-C9A4-4DA7-BC8E-03388CE8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9CE-8B92-43E4-9F9E-37CC80F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F05-D2BE-48EE-A232-1B028DE4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FD4-618C-4F0F-A4D6-16A32EA4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1CA5-41E3-4ACB-9E5F-F4AC3FE2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83B0-678A-45CB-B468-2E7A9D04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DE0A-08E5-484D-BDEC-0E5F1531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A4A-358E-4D42-872B-D2FD590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49CF-6DDE-40F2-927B-8FA8BEBA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ACF-BBB2-4A2F-BB26-76C3D320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831-4400-4376-B103-671F41C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F5D-C042-4778-8D83-C2892E4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E4E1-E412-454A-BD7F-D58295E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1735-8592-44A6-825C-69ABC4F2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228D-DE67-4DC1-99CC-3DEA8B90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065-C03C-4D7E-A8DC-6E189CB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372A-E9E8-4FE9-8484-797323E1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24C6-4CB3-4471-BF87-5989957F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738D-4092-4173-9423-BDA7963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5D83-615A-42E9-AB35-7F4DC5BD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93E5-8999-47B1-8604-F6385A43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D731-14E7-4539-BEE1-78654785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FC1-02D5-4342-9AF0-F6689A79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A995-7E2E-4CF8-8D06-F81049A5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3530-4F0D-4F15-8837-4CBEAAE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B9B8-6A93-4AFD-A042-1FBD54F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58E1-5A9B-485D-AE36-6D78AC2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9951-959A-4F9D-99BF-9A3989A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383F-ACD7-4658-8321-9880897A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96FC-D401-49D6-BC66-023F3E73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32A2-B53F-487B-8F8F-8FAF59F2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DE7D-F58D-4790-BA28-AF3FDC7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73C9-6737-47E6-A0CF-401DD54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91D-86C8-45D2-B799-51858B9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B901-1CD1-4E8E-BC02-68CE2D23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F95B-CA79-4674-82B9-73A9CBF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F0C9-62AA-466E-9655-FEF39C9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0982-0FE8-464D-A769-10692A2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4E4F-646B-49BC-ADB6-DC1244E0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7375-0593-40C9-A0C0-3D97776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4F0F-28F3-4CFC-8355-E4502595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9F07-846E-4983-8B42-C1F1700C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80EC-A338-41FA-B366-BE7F7625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E530C-55CF-45D8-8167-207E4B26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EB3-3F13-4155-8499-DE261646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B512-726B-452C-9D03-C8F49CDB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4432-4FBB-40C4-A56A-47D7CDB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6286-1E3A-406A-9ED7-6F35B92E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1510-F421-42E8-A432-DA828EC3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9E9F-28D4-412C-842C-3A308894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1D8C-2F8C-4C00-ACDE-103C07BC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DC07-EBC1-4D26-BD50-3E3FE323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E495-5A94-435D-ADFA-40BA8FC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F9C6-61C8-4D55-AB70-FF4D475F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D340-5175-4323-A0A3-DB054D52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70F-B8E3-407A-9611-E91B97C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807F-ED2C-43CF-8560-287F551F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F2C4-5985-4AE8-A8AC-94DEE616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B4DAA-EE4A-4F69-9666-6867EC1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343F-B648-41E6-94E0-B987A446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2BFE4-5590-4377-B015-19A294D3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0B20-7A33-40AD-A749-61B75422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06DAE-2F96-417F-8C45-E20AB8D0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AA33-A766-4DB3-9684-6F5B04F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21BB-A502-4C23-8746-DE5585F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DFAD4-5AF0-4DAA-8DCE-7823D0DD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29C-3D79-4142-A81A-3A424C5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5370-FFC7-461B-84EC-DDC8C27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A1BFB-69A0-4C81-B6CF-F9AD0873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26C2-6596-42FD-B69E-96DDEEEF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EBC7D-044A-422B-8561-0E8D681B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0B2B-A92B-477D-8256-6CEE45D4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8ED57-A72B-4F75-AEAA-F7C2459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03FE-12FC-4DE5-861C-515C2A7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C36C-46CE-47F0-ACB5-1514760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A581-7A63-4C82-AE16-0EDEA5F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1C046-0732-41D7-AF91-0F7DEFF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22B-DEAE-40C9-9C64-75A3496B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0C09-777B-4C8A-886E-463CE2BC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504E4-8F63-4F41-9434-981C9DC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ECC4-FC0F-4544-9640-BAB2CFE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D228-C4C4-4404-B70E-551C248C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51B3-E303-422C-9196-F82D4FA0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6A3-515A-47F0-B11C-11C24D1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8A7-E316-4C41-A140-7E06F13A9AE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24D5-8A85-4CDD-952E-9918F4F119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23F-5B99-4BA9-9753-A63A75C35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F2A8-75E6-4CEA-A53B-D021B59B0B2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101-DD0B-423E-BD65-B3B8499D4EE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D479-7CA4-4C65-A4DF-8E63266793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2AED-8258-4028-991F-FE3B4A35B86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orbel"/>
              </a:rPr>
              <a:t>Ce alegi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-85680" y="-73080"/>
            <a:ext cx="8778960" cy="153684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coke-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water_glass.jpg"/>
          <p:cNvPicPr/>
          <p:nvPr/>
        </p:nvPicPr>
        <p:blipFill>
          <a:blip r:embed="rId3"/>
          <a:stretch/>
        </p:blipFill>
        <p:spPr>
          <a:xfrm>
            <a:off x="556416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7"/>
          <p:cNvSpPr/>
          <p:nvPr/>
        </p:nvSpPr>
        <p:spPr>
          <a:xfrm>
            <a:off x="3564000" y="2276640"/>
            <a:ext cx="201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rbel"/>
              </a:rPr>
              <a:t>Preferi Apa sau Coca Cola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9" descr="coca-cola-mobile-wallpaper.jpg"/>
          <p:cNvPicPr/>
          <p:nvPr/>
        </p:nvPicPr>
        <p:blipFill>
          <a:blip r:embed="rId4"/>
          <a:stretch/>
        </p:blipFill>
        <p:spPr>
          <a:xfrm>
            <a:off x="7885080" y="0"/>
            <a:ext cx="8794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399564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780000" y="1773360"/>
            <a:ext cx="525600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l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37% d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in americani mecanismul setei e atât de slab că frecvent îl confundă cu foame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lipsa apei e cauza nr.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oboselii din timpul zilei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upă studiile de l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Universi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tatea din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Washington, 1 vas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cu apă calmează foamea la aproape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100%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in cazuri aflate sub dieta de slăbi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780000" y="1484280"/>
            <a:ext cx="5364000" cy="60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alte studii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ştiinţifice arată că luând de la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8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a 10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pahare cu apă pe zi poate calma semnificativ durerile de spate şi ale articulaţiilor l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80% d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in persoanele pe care le au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o scădere de doar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2% de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apă din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rganism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poate duc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temporar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la pierderea memoriei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ificultate în calculele bazice de matematică şi probleme de focalizare în faţa monitorului sau a unei pagini imprimate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3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4140360" y="1844640"/>
            <a:ext cx="453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acă bei cel puţin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5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pahare de apă pe zi scade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u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45%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riscul de cancer la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colon, cu 79%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riscul de cancer la sân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4356000" y="4005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88c"/>
                </a:solidFill>
                <a:latin typeface="Corbel"/>
              </a:rPr>
              <a:t>Iei zilnic cantitatea necesară de apă sau ai ales s-o înlocuieşti cu sucuri</a:t>
            </a:r>
            <a:r>
              <a:rPr b="1" lang="es-VE" sz="3600" spc="-1" strike="noStrike">
                <a:solidFill>
                  <a:srgbClr val="ff388c"/>
                </a:solidFill>
                <a:latin typeface="Corbe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17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780000" y="1557360"/>
            <a:ext cx="5256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Î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multe state din SUA angajaţii de la direcţia de drumuri păstrează mereu 10 litri d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pentru a elimina sângele de pe şosel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n urma unui accident rutier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Dacă introduci un biftec într-un recipient cu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, bi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ftecul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se des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ompune în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48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de or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curăţa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losetul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 de ajuns să se toarne conţinutul unei cutii d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şi se lasă timp de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30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de minut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apoi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 drumul la apă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Acidul citric din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urăţă porţelanul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)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0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635280" y="1484280"/>
            <a:ext cx="55087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entru a cur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ţa clamele bateriei auto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toarnă peste ele un pic d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iar bulele se vor evapora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slăbi un şurub oxidat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pune o cârpă umezită cu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timp de câteva clipe şi şurubul va ieşi fără problem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îndepărta oxidul de pe uneltele tal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aplic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 pasul anterior şi oxidul va dispărea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desprinde orice fel de hârtii,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hiar gumă sau silicon, lipite pe orice suprafaţă de sticlă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aplic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 aceeaşi operaţie anterioară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3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3635280" y="1700280"/>
            <a:ext cx="5508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e40059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Ingredientul activ al băuturii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CocaCola es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te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ACID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UL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FOSFORIC,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al cărui 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ph es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te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2.8, suficient p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entru a dizolva un cui în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4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zile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Acidul fosforic este foarte dăunător pentru calciul din oase şi reprezintă unul dintre cei mai se seamă vinovaţi de creşterea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osteoporo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zei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635280" y="4005360"/>
            <a:ext cx="5508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În corpul tău determină pierderea sărurilor minerale din oase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acest lucru înseamnă că calciul nu este absorbit în mod adecvat de organism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ducând la slăbirea oaselor şi prin urmare, creşte posibilitatea de a avea fracturi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ombinaţia acestui acid cu zahărul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îngreunează absorbţia fierulu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eea ce poate provoca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anem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 facilitează apariţia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infec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ţiilo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7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>
            <a:off x="3780000" y="1557360"/>
            <a:ext cx="52560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Băutura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Coca Cola con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ţine şi gaz carbonic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care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după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AMEDEC, es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te un ingredient care provoacă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“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viciu psihologic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”.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onţine o substanţă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‘poten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ţial vicioasă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’,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fe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are dacă se ia în cantităţi mari 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e la 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400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a 600 mg.) p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oate cauza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insomn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ta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hi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card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d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ureri de cap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 chiar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stări de nelinişte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O cutie de 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Coca Cola con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ţ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ine aproxima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tiv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50 mg de cafe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Mai conţine şi un aditiv numit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e-150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sociat cu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deficien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ţă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de vitamina B6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are este importantă pentru asimilarea proteinelor de către organism şi pentru a avea un sânge sănăto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lipsa acestei vitamine poate duce la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nem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depres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confu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zie,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între alte simptom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pe lângă faptul că generează o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ctiv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tate exagerat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un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nivel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scăzut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de gluco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z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sâng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30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4"/>
          <p:cNvSpPr/>
          <p:nvPr/>
        </p:nvSpPr>
        <p:spPr>
          <a:xfrm>
            <a:off x="3924360" y="1563840"/>
            <a:ext cx="5040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iabetul este o boală care afectează mai ales ochi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ri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nichi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picioarele şi ini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Iar acelora care cred că pot rezolva problema cu un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cc3300"/>
                </a:solidFill>
                <a:latin typeface="Corbel"/>
              </a:rPr>
              <a:t>“co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l</a:t>
            </a:r>
            <a:r>
              <a:rPr b="1" lang="es-MX" sz="2000" spc="-1" strike="noStrike">
                <a:solidFill>
                  <a:srgbClr val="cc3300"/>
                </a:solidFill>
                <a:latin typeface="Corbel"/>
              </a:rPr>
              <a:t>a light”</a:t>
            </a:r>
            <a:r>
              <a:rPr b="0" lang="es-MX" sz="2000" spc="-1" strike="noStrike">
                <a:solidFill>
                  <a:srgbClr val="cc3300"/>
                </a:solidFill>
                <a:latin typeface="Corbe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le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 avem o altă vest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există studii ştiinţifice care arată că consumul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înlocuitorilor de zahăr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sau zahărul sintetic în cantităţi mar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provo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c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leziuni cerebral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ierderi de memori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confu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zie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mental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up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AMEDEC).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Substanţa care cauzează aceste afecţiuni se numeşt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spartam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iar cercetătorii susţin că ar putea duce la dezvoltarea boli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lzheimer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În plus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u arătat că componenţii chimici a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"aspartam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ulu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"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u alte consecinţe grave dacă se consumă excesiv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um ar fi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leziuni ale retine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sistem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ului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nervos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12" descr="diet-coke-bottle"/>
          <p:cNvPicPr/>
          <p:nvPr/>
        </p:nvPicPr>
        <p:blipFill>
          <a:blip r:embed="rId2"/>
          <a:stretch/>
        </p:blipFill>
        <p:spPr>
          <a:xfrm>
            <a:off x="2987640" y="3789360"/>
            <a:ext cx="779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0:58:27Z</dcterms:created>
  <dc:creator>Corporate Edition</dc:creator>
  <dc:description/>
  <dc:language>en-US</dc:language>
  <cp:lastModifiedBy>Corporate Edition</cp:lastModifiedBy>
  <dcterms:modified xsi:type="dcterms:W3CDTF">2011-02-17T22:09:48Z</dcterms:modified>
  <cp:revision>8</cp:revision>
  <dc:subject/>
  <dc:title>Apă versus Cola</dc:title>
</cp:coreProperties>
</file>